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5903008"/>
        <c:axId val="94566632"/>
      </c:barChart>
      <c:catAx>
        <c:axId val="9590300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566632"/>
        <c:crosses val="autoZero"/>
        <c:auto val="1"/>
        <c:lblAlgn val="ctr"/>
        <c:lblOffset val="100"/>
        <c:noMultiLvlLbl val="0"/>
      </c:catAx>
      <c:valAx>
        <c:axId val="9456663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90300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6887-AFD4-465A-80E0-75BAB5C9D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AD86-9564-47F0-94B1-F18B94CFE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43A8-08F1-4F58-B8EB-9231F31C9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4FE8-103C-4513-AA51-B9180F1CA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19EE-3995-4237-A1E4-23DC9F50A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6D59-D028-4B60-849F-34740A2D3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5169-E9FF-45E3-857F-D2D0B8370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D514-15DA-46A0-A07D-76E9241D1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8859-3825-424F-A8E7-6C8302BB2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232D-951D-453A-8566-3EE636F3D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D24D-6337-44E5-887F-B37994CFB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EA20-E404-4F62-97C0-327F33DEC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4D62DD-DF93-4BE2-90CF-1387136E087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