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904726"/>
        <c:axId val="14668806"/>
      </c:barChart>
      <c:catAx>
        <c:axId val="18904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68806"/>
        <c:crosses val="autoZero"/>
        <c:auto val="1"/>
        <c:lblAlgn val="ctr"/>
        <c:lblOffset val="100"/>
        <c:noMultiLvlLbl val="0"/>
      </c:catAx>
      <c:valAx>
        <c:axId val="14668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04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7A5-AF31-4270-8348-A364D402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B3F-3F0D-496A-9C2A-637A2F07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F8B-8EA7-4ACE-906C-E108B830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A3EA-2127-4A23-B006-A79CC138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062-B8AB-4451-9C7A-1A7D89F3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527-6E95-4923-A82C-43316029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851-3179-477B-8CBC-F82BAEC0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7B33-E237-467B-9C20-E34E6C98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73A-E8A6-49B7-8541-C868D428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4BD-E79F-4228-8EF7-4F86B79A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515-519E-4D94-A4CE-E39BCD9C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423-157D-473D-B276-BECD80D0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FEFB3-D21C-4E94-9903-9999D0C430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