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28230"/>
        <c:axId val="61423575"/>
      </c:barChart>
      <c:catAx>
        <c:axId val="83528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23575"/>
        <c:crosses val="autoZero"/>
        <c:auto val="1"/>
        <c:lblAlgn val="ctr"/>
        <c:lblOffset val="100"/>
        <c:noMultiLvlLbl val="0"/>
      </c:catAx>
      <c:valAx>
        <c:axId val="61423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8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761-4A6C-45DD-91CB-458DE3E7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55D-DDCC-4645-B044-9BC04A5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065-5380-472B-B68E-FB2B184E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BF6-00DE-4E8E-8D0B-0EFB0481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F80-D75C-47C1-9CE2-2ADAD09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F2E-862B-4FB6-9385-5BC9A775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1B8-7876-4413-B453-76AC83B6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346-615C-4455-A1C3-10E1DF6C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D41-9D4C-404E-AB42-673E1A06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B84-9CA6-4603-8EC9-70D4B6FA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CEE-6732-4132-996B-C3D14F7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4EF-DAD7-4444-9CD9-B6B21E1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BFA59-5A67-407F-8714-73ECCFA8C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