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18228"/>
        <c:axId val="83520630"/>
      </c:barChart>
      <c:catAx>
        <c:axId val="69518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20630"/>
        <c:crosses val="autoZero"/>
        <c:auto val="1"/>
        <c:lblAlgn val="ctr"/>
        <c:lblOffset val="100"/>
        <c:noMultiLvlLbl val="0"/>
      </c:catAx>
      <c:valAx>
        <c:axId val="83520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18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53CD-C26E-4A56-A5E7-A019197AE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83F-1C06-4390-AB89-E23EB6AE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0F6-CA21-4613-80AE-72483A12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1D4-4550-4E71-BE10-7A8A0649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7D2-3076-4EAD-B564-5FE9CBF8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9D5-B59D-4011-B1D4-CE4FF24B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A778-6AFD-4B23-9CE1-A811A049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E3A5-D593-474A-8C7D-B2424685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433-1EC5-4774-88B0-91CE62C2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3384-D489-4730-B586-F78D9909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9616-74CF-43B7-83AD-CCB4E02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A8C-2D39-478B-80CB-5B7A882E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98059-FC7A-4C72-83AE-E1EEB855E2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