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24003"/>
        <c:axId val="74991335"/>
      </c:barChart>
      <c:catAx>
        <c:axId val="58624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1335"/>
        <c:crosses val="autoZero"/>
        <c:auto val="1"/>
        <c:lblAlgn val="ctr"/>
        <c:lblOffset val="100"/>
        <c:noMultiLvlLbl val="0"/>
      </c:catAx>
      <c:valAx>
        <c:axId val="74991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24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0E8-1D3C-4595-9387-C623AF08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899-7B78-4DD0-8820-4D585FDD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403-F22B-41A2-B8C9-F288F7C9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FB9-697A-4812-B6E3-39D876AC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5F8-8C37-4379-B0EE-C3532C75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7E1-2D16-4E5C-9FFD-B90CE22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4A6-F307-49F4-917A-C6E3E5D6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37D-EC0E-4A0A-95B9-9EA27C5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AE3-2F4D-4E50-933B-6B2E783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4D2-2C50-401D-B2DF-436C2AE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BC2-E7F1-499A-8515-162581F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257-8607-4DFC-B594-3B58262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50FE-D76A-45C0-B6F9-AA91580A45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