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23537"/>
        <c:axId val="24375024"/>
      </c:barChart>
      <c:catAx>
        <c:axId val="15823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5024"/>
        <c:crosses val="autoZero"/>
        <c:auto val="1"/>
        <c:lblAlgn val="ctr"/>
        <c:lblOffset val="100"/>
        <c:noMultiLvlLbl val="0"/>
      </c:catAx>
      <c:valAx>
        <c:axId val="24375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23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EBC-942E-42FD-BE62-69AD4B00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F70-FC24-44BD-A56A-4F7FCB7E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6E7-6FCD-4669-9D73-66793EEE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F14-2C48-41A6-81F1-7C5EDEC5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2E6-F3FF-4480-9265-4A53EBBD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16F-03AC-4391-8EF4-4FE58A8B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4D5-AB39-4D3B-88FF-B3ABB9F1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565-BDF4-4B7E-9707-8548F15C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7BA-D568-48D7-84CD-754D46E6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7B2-4105-4F99-8C79-799C741B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3C1-1A0B-4ED3-8DDA-DE6239BA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81A-0E4C-484D-9FAC-2E23E91D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091E7-29C8-4FB2-BEE2-17F5A47AB4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