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642190"/>
        <c:axId val="46432463"/>
      </c:barChart>
      <c:catAx>
        <c:axId val="536421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432463"/>
        <c:crosses val="autoZero"/>
        <c:auto val="1"/>
        <c:lblAlgn val="ctr"/>
        <c:lblOffset val="100"/>
        <c:noMultiLvlLbl val="0"/>
      </c:catAx>
      <c:valAx>
        <c:axId val="464324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421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F8AE-13F3-4AA9-BF34-E7289F4C0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61CC-9B44-4CAA-80E2-1D0A9608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8E4D-C7AB-493A-BC7D-D0D2EBF95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5736-270E-434A-A35A-1F4F53621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9072-3C9D-47E8-93FA-5AD35F83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4AC8-829E-4F6C-BD06-A35DA9D7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69EA-4F86-456F-A364-5166BB0B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4592-6CD9-4254-B897-C36CC50A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F26B-265B-49F7-A695-4D94910C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A9F2-8B30-448C-A1F9-1DE7386A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0BCB-0F16-43F1-AE3C-4283F2DE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146F-B9EF-47A2-A12F-DA3F9EE9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6F5405-6F86-4196-9231-A2C4452765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