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631493"/>
        <c:axId val="58306646"/>
      </c:barChart>
      <c:catAx>
        <c:axId val="756314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06646"/>
        <c:crosses val="autoZero"/>
        <c:auto val="1"/>
        <c:lblAlgn val="ctr"/>
        <c:lblOffset val="100"/>
        <c:noMultiLvlLbl val="0"/>
      </c:catAx>
      <c:valAx>
        <c:axId val="583066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314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456B-AFCB-48F9-AD7F-027A25D5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37B6-198E-498E-8557-B5718AAC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C776-F205-4A0A-9CAE-10D6C8CDD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2C99-697C-4C5B-853B-8370B37F6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D586-3136-46C6-AE63-F0745D84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B5DA-3AA5-401A-8E6C-619593A3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7C6A-463F-428E-8C2B-F70386BC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5B8C-B15F-461B-B5EE-EAE59F83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CF14-E9DC-42C5-99D9-1289987B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6F3C-F283-452F-B336-E8811404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742B-4CDB-4B7A-944F-8E75B7C9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044C-6F9B-4CCB-BF32-688C2399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EC78E-1A86-4E4D-AEBE-4D1AF02604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