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71510"/>
        <c:axId val="30097754"/>
      </c:barChart>
      <c:catAx>
        <c:axId val="84571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7754"/>
        <c:crosses val="autoZero"/>
        <c:auto val="1"/>
        <c:lblAlgn val="ctr"/>
        <c:lblOffset val="100"/>
        <c:noMultiLvlLbl val="0"/>
      </c:catAx>
      <c:valAx>
        <c:axId val="30097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71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ABA-FD47-44A3-B640-CA523C78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7B7-A49E-426E-AAA0-07DABB16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607-FED1-4336-8FD5-DCE823B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EDD-77C2-4D54-8897-D99667E2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AAB-41DD-4C99-9E3A-A1623A1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8CF-94B4-409E-A9AB-EB885477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FF2-7444-45A7-8955-88F89E5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B09-6395-4C10-AB1D-26412EC8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2F7-76B0-46DE-8487-BCAD663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E70-0FC9-46BA-8CFB-164DC4A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185-AF79-4620-9E0A-93EAFD50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359-6D9C-492F-9073-7993F31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D0B2-45A9-40A4-A396-29390AC32D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