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390716"/>
        <c:axId val="56369333"/>
      </c:barChart>
      <c:catAx>
        <c:axId val="523907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369333"/>
        <c:crosses val="autoZero"/>
        <c:auto val="1"/>
        <c:lblAlgn val="ctr"/>
        <c:lblOffset val="100"/>
        <c:noMultiLvlLbl val="0"/>
      </c:catAx>
      <c:valAx>
        <c:axId val="563693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3907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8533-AE69-4ACD-9438-BD34F00AE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9C28-DFA8-499A-B2A2-D0BD98E6E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E40C-5550-4F22-B99E-A83B6FAD7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AB69-B6C6-4D8F-A0E3-081DCE51B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647E-AB44-4753-B907-E5A9A65FD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C323-0EAD-49CF-8DAB-EFC6B91DD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9BF3-C265-4E70-B92A-0EBD09F36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DED2-C9FA-4BFD-8AE1-82872982A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9A7E-CCEF-4A8D-8DA4-9A5F573CF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28B8-F26D-4163-BDFB-A0BACB5F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AE78-785D-4963-AA28-8BC16CFD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C911-159E-4107-9488-510D7B07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EA38C0-D0D2-40E7-8D51-7A4AC85189C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